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E52B-9172-4BC0-AF06-ABDD6E645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D30A-AA9A-495E-83AB-477EDF62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9824A-F2D1-43C8-B3D0-DAE9EA92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0EBE85-AD83-4539-A307-2C9F6017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959F5D-3458-4DE8-8660-B8BB2CA9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A10EA-F6B1-4660-B305-E8024493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D9823-82CB-4B6F-AF72-405F4BBB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19337-BAA1-4F95-B785-7B75B85B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959FF-3EDE-4A11-A101-9A2E3EE6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C3BB9-2761-4FD0-ADCE-339C256E0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75C34-08A6-40B8-8B86-93BD7A16E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71DA10-16CB-4B39-B9B6-D0F8A7B5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B0F6-D3CC-47C9-992E-A4F03A66A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7F802A-E60F-44F5-A673-B6353263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2D90E-9284-404B-B518-77CE3855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3BFC90-BA06-423A-B440-7D58C54A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617F4D-A4D6-4E51-8B57-160AF9B4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86140E-FAC5-4EDE-886C-D054E0DD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25B5DC-F821-42A2-9867-E51C87DF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665B48-7500-47E2-928F-8F939004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3022DF-8AAA-4108-9B1D-2B4B9104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7A96B7-D3EE-45D5-B968-C7173A24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2F8F91-99A3-4F00-AAAB-175CA9681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A116-974D-487E-AB9C-C009C8C6D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2C2D4-C21F-4A22-B5C9-CFBB5D655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3048A-D030-4179-B85C-C6882E071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1B41D-C008-4F98-AC5B-8F1C2872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D5163-D419-4799-847C-82C4F9FD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FBD0C-8169-4DC9-B94C-B629F16D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423C1-3FD7-40DE-AD52-B09368EB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D0A20-0493-42D4-9719-FD8ACCDA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BF786-3993-45E3-90C0-7F994EB4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8F0CE-A99A-466A-BD66-B05BBC98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9DCD0-FF63-44E7-BE3F-B9414A1C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698C-5A62-4824-A535-93A779FD6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2813C-5B8C-4422-8862-40381FCD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1295B-F50D-4527-8812-6E01EC3E0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4E361-8CB1-4C4F-90E1-F6C74CFE8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EB4267-A237-4858-BB24-62E8FA09A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DE79CF-EA66-4377-844E-1BC0C70B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2AA11D-7AD1-409E-894C-867BA871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FC7AA4-0536-4B7A-B579-EF527D9C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00C315-36F6-40B8-AF14-773E822F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83D3D5-9710-41FB-9B03-B012E568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358283-6164-4BD6-BE4A-D1E48564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6A96-E5B4-4268-B8EE-FDDC72B1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9C189A-0D50-49E6-9156-51AF82DB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458DDD-3133-4827-AB1C-7E0C5CD5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B37265-8167-4F0A-B592-90A546F0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A5FE85-99DD-4130-9761-05F7D8DE3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B7C725-9D12-4556-8D2C-D377BEF65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3BE05B-4DFE-4AF7-BEBA-40F3148CF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DE3E00-AC8B-4767-90D7-E09B29DC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3D9251-2AC2-434E-8AEA-4BF95233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C84B03-E58B-4505-B18B-05BC1C26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52F099-8ABF-43F3-A5C6-B088D9D3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1576-59FE-4F66-BA85-6BCDFA4D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6B6D1B-88C7-4CDE-B72C-C05F6CAF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BD119C-C0EF-413D-AA02-2FBF594D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203208-E483-4EEB-9D9A-5441E792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D82D11-B236-40B4-B065-C1C970BF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D0BEFE-AD77-4EE7-9194-CF5A796F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F428F8-D2DE-4FAB-BA38-5EF60B9D5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352909-8E9E-4963-B0FD-10F8080D4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2B5233-C4A8-4F4F-8E12-6684E28EC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510C83-8A4B-42CB-87C2-61D46ABE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2603C5-A1ED-4CF4-9D01-533A4EEF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B187-1C48-4B67-BD76-B17922DD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F17AD2-32D8-4954-86D5-3D9C1A7E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A11289-4703-4943-8C3D-1CC47CE0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8904B5-A588-4A3A-9A1A-FF1F5F52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2E46C2-0119-4D80-928E-C3515054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DB46A6-9614-4775-9C59-63E2C5B1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7F3649-AC8A-40C7-AC63-5DE9C1D7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69D38E-667F-4498-965C-51600878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8F7480-A482-4314-8381-151FBF898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F7A28B-0D2E-47A2-B058-F1622F932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C009E6-34BB-4742-A95C-BAD5B09F5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CB0B-17D3-44E7-AE2E-8FA081B2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DDA08A-821B-4635-A02B-F0EAE586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5C05EE-5E5A-406B-ABD7-73E80A41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570223-D353-4515-882F-BEAE0B4A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AB1BFC-694E-4309-903B-D617A563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07C130-CE73-45FE-9C31-3DD0DBD6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60001A-253F-4777-AD78-A61AB7AF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55CB3E-70E1-43F9-936E-F02E4AED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6FF3DB-042D-4D36-AACB-51DC0B49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840379-30D1-4BB8-9F18-EAF94A8F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865E75-CA40-47FE-81FB-61DD4E084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20EC-F3BF-4539-8C13-E8C4E9A3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E9359B-E82B-441D-83A8-464FC3A92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060F73-EAEC-4199-8BAF-051E7EBDA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F80FB3-03FF-4B5D-8269-D9EEC01C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6B2F77-5F74-4773-818C-9A7FB2D2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8D1221-79D7-469B-A19F-D05FFD50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C6E81B-04B9-410A-A7F3-5C106425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78F17D-E6F1-48F9-AB54-0AA16C8E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A1C921-BC3D-4CB8-93CE-0DA571D7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28F93F-2E1B-4F37-8E27-46AD2004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A06377-2136-403C-AE09-4E2AB947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FF81-9FAC-4876-A3B5-B89A2737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97372B-5F71-4586-995B-3D92A540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C14367-BD2A-4597-BC30-DB95E112C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C5B90F-1AC3-42C3-9A79-EB56BDFEF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C89A45-9D14-4D5D-A5D4-9A1B4A71B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B8DA06-F282-4D13-AF68-7D8DA074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36677C-FBC6-4E1C-8956-0AB156E5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7035E8-9BD8-43A0-9C34-E77F3093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9232C3-296A-4EBF-A427-08306E00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752654-8AFD-4484-929E-B1A96E15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307D9C-9AF4-4CF2-A960-6FF6EAEB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DBE9-79CC-430F-A921-71EF2CA6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7679-210C-4FF0-8F02-902A6E39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47C5C7-9EAD-4CC1-9468-047B0746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1E49F1-8545-4EB6-BCE5-D687B54D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0433E0-1B49-4051-BE14-38018AA6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C75882-06EF-4DB5-A44A-02C540715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544F9F-D8AD-44F6-9211-803449499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899C90-9797-44D2-AA2D-B143FD4F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CB7131-4CB8-4C4B-9EE3-051702AD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0C1A7E-880F-4F5F-AB24-648F01FB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A8B38D-065A-41EE-A56D-33DA1B80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38941D-E3CA-4EE2-965C-1F933019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8DE1-D08F-4022-8A04-22EED9AB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70204F-B451-4F5A-979F-1F7946D0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3E7CBC-55C3-4086-9148-B026657F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CDB119-BEC5-4786-B56A-CB3861C4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53E1C9-3C3A-40EB-92E8-6462C37A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A72F99-E8B2-476B-8FEA-BA287B1C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F2CD04-6D18-4307-969B-4814B3768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AAC606-87A8-4CA3-9E82-5E3DEA2CC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77626F-B04F-47B8-9A55-72BB68E8E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1F68B5-199A-426B-87D7-9439457E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ACB32E-D1BE-4205-85A1-10D2B32B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F7D3-543E-4492-BFD6-ACE8EE7B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D97548-8A45-4999-8273-CC1BF1EC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CE1EB5-51B5-4823-AC69-C30AC217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B2C456-0FBA-446E-BDA0-724441A6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FF8521-78C8-49E3-9327-A6E78D76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9F0D1F-4D1A-4EEF-A542-BD157396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958827-3D1A-4471-B931-211773C8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2559AB-0B02-4A6A-AC6C-0ED6FA43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F335F7-4159-408A-8507-7F228C2AF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BC9A8D-E13A-49AB-8A17-7F36F834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FADD10-7A18-495F-BD9C-176F2849B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FC21-8F30-4802-81FB-11BFDBE39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50E867-D51E-475C-A632-557DB462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95BE54-A5F4-438E-A1F4-45375CAC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34536E-6E2C-45B8-9923-E9543639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B78098-8CAE-4A4C-B29B-BB6AFE1B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5CE86A-9C26-4E46-AB8C-A7226F63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7E46FB-531D-445A-8B64-9FB4C7D8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06C248-5535-4198-B23F-C081E205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39EB2C-8D37-44F9-BD97-528FE150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E99799-0AB5-4BC4-803F-8B247EED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B4ED27-3E9B-41DB-8E70-0E9252226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4E03-4E7C-4C4D-B3A5-9A288B556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46B0E9-4799-48FC-B1C6-4D9B39BDD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298A3F-65B2-4FB5-A7EE-166E5EFF8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C70B28-4BA4-438B-9686-E9B6D0C9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5C3C72-1BAA-407D-BE4E-835318AE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3FAAF2-0291-46C9-8CAE-4325E944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7F4029-B989-42C7-BD0B-4A21CC3D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2475C5-4840-4EFC-962E-161BC392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783877-31F2-454F-A929-5348BBA2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EB194E-8AE3-4EA8-AC82-616BDED2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25CC0B-EB96-4F97-AF43-0858EA43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41FC3-6EBD-4A28-8B53-5035051A8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904EF5-A501-4D59-B041-85E07F51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B742C0-C27D-4D34-9B49-11E33D2CC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95148B-DCA2-4321-A99E-2D1791531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3ABF51-D4A4-4FBD-9EC8-145559C1C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2A8800-F911-4544-8C35-35E34DF9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CF5B5A-B448-46ED-9466-75A51640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E3C64B-E1D7-478D-BF16-A4FA6E42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F258F4-3982-4F47-8EA0-5DECACCA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84E4E3-56F8-4A77-BE16-AEDC28D6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078930-142E-44D3-8CDD-6E9058B7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3CDAF-8177-402C-ACC4-C3C5F9A2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717044-8918-4618-9BDF-BDF85DDC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A4BA65-ECA7-4EBD-B30D-8011F225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E73A6F-54B9-4848-B78A-89B5F5DA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2437BF-B051-4F55-8750-1A2586C61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F06C35-888E-4731-85EC-1B7F7EA51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ADCCC1-B43A-4EC3-90A7-5A310DAAF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BD510F-785F-4DF7-A6EA-10E562E6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C17B48-C124-4235-8D5E-FDC6F9AE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AF54C8-358D-43A8-8BAC-D961516D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AAB20A-C8FE-4482-A375-B66EB298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ECF31-6304-4DD4-8382-1F77E52B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68B64B-129F-4EC8-8BEE-98C5257A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F1627D-76C3-40D3-8760-37494801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753DE3-68C1-4D45-A0A1-0F0F4036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EEAE9B-B32E-4F06-8143-48A7B066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91F209-75D3-44FF-B861-C5438E8E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7D4D4A-CCA1-46D6-95D2-30829C0FD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C10111-E0D7-49AD-8D6E-83D45DB48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A0680E-9086-4D6A-8E14-16C72E740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D30B4E-1195-4CF4-AE88-098697D0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797700-2254-409C-8188-FBC77C8F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4B01A-14A0-47CE-8999-6EF4D27D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A03A19-371B-4268-8C3D-53533750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16D9BA-E4C4-44C1-B575-011E13D2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05100B-00C5-43B0-B5D4-9BF4F5A4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B40E8C-6598-4D8E-BE9E-F256B8CF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732DF7-79BD-4858-B848-DA5BF93A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70CF03-1EE0-4E6D-AD0A-FB809767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1D92D1-388F-4039-95F0-F0697176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9382F7-36FB-4802-87A5-274B7C9CA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6760E5-8D11-4BD5-A0D2-718B0EAFE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7988BCF-C110-4E88-A27F-69DC4653D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21F3C-65D8-4E9D-B1B0-DAB0727E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D1B78E-1418-4548-BE25-8DE84FED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90CF93-7789-4D21-AA68-4E37C79F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4E3DCB-9BE7-4367-B84E-7D41ED45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879180-D0ED-4A06-99DA-98593E93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C77CE4F-F7C1-4769-AFF6-0EAD9750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DA13949-4BBE-4B79-AB53-1079FAEC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87435CE-D161-4B77-A813-6EAD3AE2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562C638-6597-45C4-8EBC-9D2A230A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8A4AB3-3843-4157-8025-3278FE46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4A6630-F295-41BE-8E84-0FD2D0DB9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BA7C-A594-4CF8-A0A9-E1AB65B9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234AC-3837-441C-B504-4476E244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764409-10C1-49CF-B60C-1C55D309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715142F-673B-4297-94B9-DE9260728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06D3CC1-9144-4F36-B995-1758B7E6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C4D065-6559-48EC-952F-CEBF6DA6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4B29850-47D2-4C34-ADAC-C88965B9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7F9920E-9568-4A7C-A7C9-360A8D99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42B904-0CB9-4671-A235-05EFF01E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279AA9-2D88-4EEE-A9C0-34A6D64F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8D32C5C-A8E1-411E-B72F-1AA55283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2B440DB-D925-49AB-B5E0-ED69B9C2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DD5AF-1FC3-47EE-A91C-194DF6F7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7E1971-6DEF-4D09-B000-C544B7BC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DFD7FE-D78F-4C61-B8BB-63041F3BE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DC944BB-7CA7-4202-8E56-E322EB873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BD47CF-4B13-452D-8F95-0EFC6C883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8162D90-24C2-499B-BA68-5A5ACB89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6AFE2DF-5183-4E77-90C9-1FA39BF4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CE16A8-4F1B-43A7-A696-93CAB47A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5E50166-8409-435F-BAC4-512C6F96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F09E9E8-FD2C-444A-848D-86ECC88A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CEFEFF0-2E3D-4687-BEC5-627867D1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D9924-5771-4149-A25F-34008670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EBE687D-3BA4-462A-A59C-AFF5AEF2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4550271-5227-4B1C-ADFF-DDF76D27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D70A9E9-9F19-41BF-9A86-ABA9EA24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132D9EF-F9EE-448B-BB98-229DB30D4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54C626-E4BC-47A4-B553-E2FB9320B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7EC5D58-A626-4E16-B1D3-A39C577B6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231D153-D661-4AB1-99A2-7650AB45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9710360-34AE-4480-967F-AF73C69E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B9C38BC-DDCB-4D2B-A123-3A6698B0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C5361D4-2F8A-4C76-9542-8B6FFC47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786B7-0E5C-40F4-883F-C43CEDC6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BC199E2-F472-4BC2-BA03-B1172458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BE84827-10E9-4FD4-A4AE-962DC4CC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11420AC-2D8D-4B14-939A-43274ECA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5820DB3-86A6-450F-8A63-01E4D616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F9BD617-2386-4AC8-BAD7-0BBA9556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5D01DC3-7999-422C-878D-25BAD2F54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F5CEDCB-73CE-4567-AEB1-DDDA89484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180C044-7646-46F1-8D8C-36C67A2EA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68CBD20-1224-4F92-B870-D032004E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C31E52F-F8E9-4FB7-A6FE-D4E09C64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9D55E-2C2C-42D4-B2BC-EFF42ECB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697D478-3E58-4B22-9D54-2DD44404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8EB5BEB-86DB-439C-841E-6948DE43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A7D5AB2-7FD9-4291-A51A-B5784435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08EA633-C92E-4BEB-A818-BEEBD029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BB76066-45F7-4580-98CF-C91574DE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B6961F4-554B-4AF0-8FAD-02B3E16F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819F4D9-B332-4C75-8E33-73157C71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401F458-E3EE-41DA-B3FE-C5CC6AA04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B01E294-8F79-4B25-870F-5DD73FA09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F230022-95E3-46B7-83FC-444DFBBDE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AC4E7-D1E2-40E1-8ABC-57011D780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06E4F79-22CA-4D1D-AC65-1D31E83F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E60ECC4-DEF7-4744-AD18-9CA95A31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A833A8A-2493-4793-BECB-A12633BC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2C1CD2F-F6C1-4B9C-9FCC-4ABFFE23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5330F18-0310-4A18-820C-0545289F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0588A50-39E3-4FB4-98BB-B537ED70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A3451A3-321E-46EF-831C-1B256A8B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4078B0F-CDAE-4467-BABD-C89B7221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1E9C35C-B9AF-4140-A406-79C1969C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D9EA209-3951-4FE2-83A3-A441E1C80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E077C-0B77-414D-83A3-0AD56CD95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13D96B5-B163-4D12-86F9-995BD8668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D3D299D-6920-4703-BFC9-FF749832A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E064323-CFF2-46DA-84DF-71DC1D18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A736D5A-5906-4440-84B4-4D45D4F4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A4EB24E-AA5C-4BCF-B817-318E941E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212D49E-63AF-4DA2-BFDC-5957D48C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BB5DEFC-9A23-4385-8B7E-1F3747DC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1C514B2-E6C5-47EA-8A52-7056538C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A6083BA-5AE4-4D8A-AA67-632972CC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C21CEA1-08B3-4080-BB39-4078B5EA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A63D0-BBD5-4995-9447-E6D5B3E15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FF41607-5224-4C12-90E8-CF343023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0567ABB-5D37-40CC-9C88-8366E91F1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817D1D1-38AB-4482-9BFD-96B7C7602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8106F-AF0D-4994-BA18-951210D1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68C64-E31F-4251-8D18-E2427EF8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9271-3655-4D76-B307-A998E678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75A1D-06B8-45D0-BC59-49748407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949AE-DEFC-4525-B959-95A23135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8601E-BC24-4631-9A94-EDE4D375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3623E-55DF-471C-B293-36480F99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E0783-9060-4689-ADD4-DA3C4390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24E30-651E-4056-BCEB-FB27CB22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D4CDD-72FE-4FE8-8FC2-4C84B390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EF429-8EB1-46AD-814F-C3DAE4310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2B062-8876-42FD-BDA3-5CC4868E0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E8391-E444-488C-9EC0-C726C8190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B5DA-B7FE-46D5-8C27-85CB2053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31F2C-A642-4467-9950-00FC8853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A912B-595E-44C2-883D-2AA47775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B3966-21D7-4271-9445-F08C4735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03257-52F1-4342-8F11-B173194D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60127-5A5A-4401-970B-9A5C4F2C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63F70-1054-4D49-804C-32CF3B04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6944D-3E3E-4D82-84F1-50E9F3F3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3938B-39BF-45DB-B601-DF9856BC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F180D-40C7-4636-AA2D-29975257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91855-3E1B-4E06-B2B3-A9D40714D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A717-C2DD-4D7B-8D21-1A8781E3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788B9-6DD4-4E93-B528-6BBB0FDB5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B4F6E-8FD4-41B6-8CF6-52BE92CC4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13D3D-E53F-4477-BDDF-736D3CA4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95EE7-D19C-4E23-8C80-D4CC008C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3CC69-0659-495E-8339-C506AF62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577FD-3A64-4285-9E2B-518B9E19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F525C-0E29-470D-9143-74B31311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79DAD-0354-4B0F-8C1C-F6EAA025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9AD14-D252-48BF-ACB0-1B0D182F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DA528-0991-40E3-B997-32CF1878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35D9-5223-43C0-8FC4-2374BF36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B867E-9E58-4340-AD64-99032446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309F7-D230-4CAB-983C-7F90FC4A2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08909-2CB1-4E73-B52B-88018EC46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353F5-D57B-4072-98D1-1F3EAF1D5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5448B-EE76-492F-99E2-80407BAE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ECC3F-3926-4705-836C-B8FE4568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4EDA5-E279-4A5F-B9C0-62311609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6583F-11C2-4199-82F8-CD45AAF3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8C6E9-88C2-4050-AB59-D7257EF2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AF35B-629B-4B44-8111-F736CF20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BF2D-83DC-40F1-B0CE-82E1A120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82FB5-9846-4BC1-8ED0-4F63DC8A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5A74A-8D18-4FF5-9CE4-7B644DC7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E0093-D7E0-4E13-8B76-891F12A9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BF922-22F9-47A6-8FE3-9EF2AE2EA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C3957-2523-4512-B46D-278272759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149C1-8F55-4352-993E-8DBF589A7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61525-43FA-4C56-A0BD-3D51895B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31343-D16B-4128-A266-33B3B845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C74EB-065F-461F-90C0-751A4610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CF0BF-56BE-455A-B37A-BCED081F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B268-E5E1-44C4-97AA-E92CDD7B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989E1-2B18-44AD-B382-FB95735E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C074D-FCB5-432E-8E80-654C3C9C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553A4-4FC3-4250-B289-174E714C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3E16B-EF57-4DFC-937E-50B8448E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E0990-0960-4FA0-849F-7570E0F7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E3854-7BD2-4878-9E67-22ED0583E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1BD35-3257-449C-B98E-5E35B3FD3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12CD9-4F87-48DF-B513-9100898C8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94573-9015-40E1-A4EC-0EF97C62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83EF8F-F67D-4C1E-A923-C3BAF065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B891-3F69-4960-AB14-39ADED73A3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7AA7-7AC6-48D7-8444-84EF202446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9031-1C70-401F-A178-6138A220D7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A2C3-5AEC-43AF-B1CC-F36DC1EDF4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2A82-3504-4148-A7C7-ACCF9921A0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0B7F-42A5-464D-85AF-27ECAFF995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F960-4574-4CCC-BB9F-CB33500C66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D808-CEDF-4237-B0E4-219909ABED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EF19-630F-4D42-B1F2-8DD0FFF3C0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A433-8443-46F5-AAC6-7B2DC2ABF7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350A-5160-4079-82CD-2A6CE972FF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7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8287-CF03-4A72-A3FF-B787DD4FC1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4D87-8B0F-4C2D-B878-053498BD2D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D86F-4CB5-4516-B0C3-307DC9CE31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88F8-12E2-4A91-B3F6-8E080F7F15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75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8C9D-2150-4F53-A88E-7DD6D86DD3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67DB-F0B0-4729-B4A9-2483810506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2E0C-6BD1-468A-9D34-4FC3C4B9B8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E118-8E79-41F1-A7FF-42C4E8D14C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3235-DDC1-4E95-87BA-CE6E6ED3D0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47E3-713B-44B0-B9D9-83B2351725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0C47-7638-4E95-B81E-98DEA03F41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8C5F-5635-41C2-97F6-B991EDB0A5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D48D-D986-4347-914E-8EA33454BB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4B85-3CF2-4A45-AA21-B723D41303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9210-94C0-4B9C-A345-DE1E9B7094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BB48-0FE1-4766-B406-17F3DA9D1C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97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D1CC-658A-4B1B-8606-7B1DA8708D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4E58-075C-4E20-AED2-D9A760DCD4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B328-8070-436B-AD4F-A8B5353C04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FBA4-9042-4A44-B80C-4F6B780037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7959-D727-4AE4-96E3-438B1DABCB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D62F-5418-42F7-AE1D-B4E5AE3454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FAFA-F50A-4190-8712-3530D30B6B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F64A-5D61-4699-8692-95F4E7DBA8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5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26BC-7D35-47C3-B82C-BDDE30D491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1818-5B33-4A09-946C-F8994E5DE1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9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0F4D-A0BC-408D-AC21-BC4BA53CD7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E3BD-36F3-4C7F-B01C-3F062F9A38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1A66-876C-46F9-908F-BB11C18704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24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8AC6-91F8-4C52-8CB1-056BB2A237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25E9-4A33-4A5C-B7E1-BA8208C9DE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128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0980-EAFC-4FD8-B46B-2F83F15A44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65B4-1D50-4573-A6D3-86BE2F3F87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F3F4-D41B-49F7-87BD-048CC0AD6D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2841-D749-4C08-9436-FD6C392B4C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6DE4-E6D4-4BFF-9BC2-CD4146D23E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62FE-486B-4798-82EB-69B7280493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2EFA-C75B-4C15-B0EE-044C52C4E8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B42A-88CD-4E9E-B56E-F9D871532D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图片 40984" descr=""/>
          <p:cNvPicPr/>
          <p:nvPr/>
        </p:nvPicPr>
        <p:blipFill>
          <a:blip r:embed="rId1"/>
          <a:stretch/>
        </p:blipFill>
        <p:spPr>
          <a:xfrm>
            <a:off x="2147760" y="1079640"/>
            <a:ext cx="4467240" cy="533160"/>
          </a:xfrm>
          <a:prstGeom prst="rect">
            <a:avLst/>
          </a:prstGeom>
          <a:ln w="0">
            <a:noFill/>
          </a:ln>
        </p:spPr>
      </p:pic>
      <p:pic>
        <p:nvPicPr>
          <p:cNvPr id="1332" name="图片 40985" descr=""/>
          <p:cNvPicPr/>
          <p:nvPr/>
        </p:nvPicPr>
        <p:blipFill>
          <a:blip r:embed="rId2"/>
          <a:stretch/>
        </p:blipFill>
        <p:spPr>
          <a:xfrm>
            <a:off x="73080" y="2440080"/>
            <a:ext cx="8134200" cy="4086000"/>
          </a:xfrm>
          <a:prstGeom prst="rect">
            <a:avLst/>
          </a:prstGeom>
          <a:ln w="0">
            <a:noFill/>
          </a:ln>
        </p:spPr>
      </p:pic>
      <p:sp>
        <p:nvSpPr>
          <p:cNvPr id="1333" name="矩形 40986"/>
          <p:cNvSpPr/>
          <p:nvPr/>
        </p:nvSpPr>
        <p:spPr>
          <a:xfrm>
            <a:off x="1859040" y="3618000"/>
            <a:ext cx="504720" cy="40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矩形 40987"/>
          <p:cNvSpPr/>
          <p:nvPr/>
        </p:nvSpPr>
        <p:spPr>
          <a:xfrm>
            <a:off x="4098960" y="3618000"/>
            <a:ext cx="504720" cy="40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矩形 40988"/>
          <p:cNvSpPr/>
          <p:nvPr/>
        </p:nvSpPr>
        <p:spPr>
          <a:xfrm>
            <a:off x="6276960" y="3618000"/>
            <a:ext cx="504720" cy="40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矩形 40989"/>
          <p:cNvSpPr/>
          <p:nvPr/>
        </p:nvSpPr>
        <p:spPr>
          <a:xfrm>
            <a:off x="3193920" y="4203720"/>
            <a:ext cx="50508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矩形 40990"/>
          <p:cNvSpPr/>
          <p:nvPr/>
        </p:nvSpPr>
        <p:spPr>
          <a:xfrm>
            <a:off x="4253040" y="4203720"/>
            <a:ext cx="50472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矩形 40991"/>
          <p:cNvSpPr/>
          <p:nvPr/>
        </p:nvSpPr>
        <p:spPr>
          <a:xfrm>
            <a:off x="5424480" y="4203720"/>
            <a:ext cx="50472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矩形 40992"/>
          <p:cNvSpPr/>
          <p:nvPr/>
        </p:nvSpPr>
        <p:spPr>
          <a:xfrm>
            <a:off x="6667560" y="4203720"/>
            <a:ext cx="50472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矩形 40993"/>
          <p:cNvSpPr/>
          <p:nvPr/>
        </p:nvSpPr>
        <p:spPr>
          <a:xfrm>
            <a:off x="3328920" y="4840200"/>
            <a:ext cx="50472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矩形 40994"/>
          <p:cNvSpPr/>
          <p:nvPr/>
        </p:nvSpPr>
        <p:spPr>
          <a:xfrm>
            <a:off x="6504120" y="4840200"/>
            <a:ext cx="50472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矩形 40995"/>
          <p:cNvSpPr/>
          <p:nvPr/>
        </p:nvSpPr>
        <p:spPr>
          <a:xfrm>
            <a:off x="7027920" y="5435640"/>
            <a:ext cx="111132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矩形 40996"/>
          <p:cNvSpPr/>
          <p:nvPr/>
        </p:nvSpPr>
        <p:spPr>
          <a:xfrm>
            <a:off x="576360" y="6032520"/>
            <a:ext cx="50472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4" name="图片 140289" descr=""/>
          <p:cNvPicPr/>
          <p:nvPr/>
        </p:nvPicPr>
        <p:blipFill>
          <a:blip r:embed="rId1"/>
          <a:stretch/>
        </p:blipFill>
        <p:spPr>
          <a:xfrm>
            <a:off x="179280" y="861840"/>
            <a:ext cx="8048880" cy="5820120"/>
          </a:xfrm>
          <a:prstGeom prst="rect">
            <a:avLst/>
          </a:prstGeom>
          <a:ln w="0">
            <a:noFill/>
          </a:ln>
        </p:spPr>
      </p:pic>
      <p:sp>
        <p:nvSpPr>
          <p:cNvPr id="1345" name="矩形 140290"/>
          <p:cNvSpPr/>
          <p:nvPr/>
        </p:nvSpPr>
        <p:spPr>
          <a:xfrm>
            <a:off x="7508880" y="206532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矩形 140291"/>
          <p:cNvSpPr/>
          <p:nvPr/>
        </p:nvSpPr>
        <p:spPr>
          <a:xfrm>
            <a:off x="7508880" y="38624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7" name="图片 139265" descr=""/>
          <p:cNvPicPr/>
          <p:nvPr/>
        </p:nvPicPr>
        <p:blipFill>
          <a:blip r:embed="rId1"/>
          <a:stretch/>
        </p:blipFill>
        <p:spPr>
          <a:xfrm>
            <a:off x="252360" y="907920"/>
            <a:ext cx="8105760" cy="4457880"/>
          </a:xfrm>
          <a:prstGeom prst="rect">
            <a:avLst/>
          </a:prstGeom>
          <a:ln w="0">
            <a:noFill/>
          </a:ln>
        </p:spPr>
      </p:pic>
      <p:sp>
        <p:nvSpPr>
          <p:cNvPr id="1348" name="矩形 139266"/>
          <p:cNvSpPr/>
          <p:nvPr/>
        </p:nvSpPr>
        <p:spPr>
          <a:xfrm>
            <a:off x="7613640" y="9968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9" name="图片 138241" descr=""/>
          <p:cNvPicPr/>
          <p:nvPr/>
        </p:nvPicPr>
        <p:blipFill>
          <a:blip r:embed="rId1"/>
          <a:stretch/>
        </p:blipFill>
        <p:spPr>
          <a:xfrm>
            <a:off x="368280" y="822240"/>
            <a:ext cx="8077320" cy="5315040"/>
          </a:xfrm>
          <a:prstGeom prst="rect">
            <a:avLst/>
          </a:prstGeom>
          <a:ln w="0">
            <a:noFill/>
          </a:ln>
        </p:spPr>
      </p:pic>
      <p:sp>
        <p:nvSpPr>
          <p:cNvPr id="1350" name="矩形 138242"/>
          <p:cNvSpPr/>
          <p:nvPr/>
        </p:nvSpPr>
        <p:spPr>
          <a:xfrm>
            <a:off x="7655040" y="91440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矩形 138243"/>
          <p:cNvSpPr/>
          <p:nvPr/>
        </p:nvSpPr>
        <p:spPr>
          <a:xfrm>
            <a:off x="2527200" y="27320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矩形 138244"/>
          <p:cNvSpPr/>
          <p:nvPr/>
        </p:nvSpPr>
        <p:spPr>
          <a:xfrm>
            <a:off x="4797360" y="27320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矩形 138245"/>
          <p:cNvSpPr/>
          <p:nvPr/>
        </p:nvSpPr>
        <p:spPr>
          <a:xfrm>
            <a:off x="6996240" y="27320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矩形 138246"/>
          <p:cNvSpPr/>
          <p:nvPr/>
        </p:nvSpPr>
        <p:spPr>
          <a:xfrm>
            <a:off x="2577960" y="33368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矩形 138247"/>
          <p:cNvSpPr/>
          <p:nvPr/>
        </p:nvSpPr>
        <p:spPr>
          <a:xfrm>
            <a:off x="5310360" y="33368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矩形 138248"/>
          <p:cNvSpPr/>
          <p:nvPr/>
        </p:nvSpPr>
        <p:spPr>
          <a:xfrm>
            <a:off x="7715160" y="33368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矩形 138249"/>
          <p:cNvSpPr/>
          <p:nvPr/>
        </p:nvSpPr>
        <p:spPr>
          <a:xfrm>
            <a:off x="4673520" y="451800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矩形 138250"/>
          <p:cNvSpPr/>
          <p:nvPr/>
        </p:nvSpPr>
        <p:spPr>
          <a:xfrm>
            <a:off x="1817640" y="51656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矩形 138251"/>
          <p:cNvSpPr/>
          <p:nvPr/>
        </p:nvSpPr>
        <p:spPr>
          <a:xfrm>
            <a:off x="5300640" y="51656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矩形 138252"/>
          <p:cNvSpPr/>
          <p:nvPr/>
        </p:nvSpPr>
        <p:spPr>
          <a:xfrm>
            <a:off x="7715160" y="51656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1" name="图片 137217" descr=""/>
          <p:cNvPicPr/>
          <p:nvPr/>
        </p:nvPicPr>
        <p:blipFill>
          <a:blip r:embed="rId1"/>
          <a:stretch/>
        </p:blipFill>
        <p:spPr>
          <a:xfrm>
            <a:off x="428760" y="860400"/>
            <a:ext cx="8134200" cy="1657440"/>
          </a:xfrm>
          <a:prstGeom prst="rect">
            <a:avLst/>
          </a:prstGeom>
          <a:ln w="0">
            <a:noFill/>
          </a:ln>
        </p:spPr>
      </p:pic>
      <p:pic>
        <p:nvPicPr>
          <p:cNvPr id="1362" name="图片 137218" descr=""/>
          <p:cNvPicPr/>
          <p:nvPr/>
        </p:nvPicPr>
        <p:blipFill>
          <a:blip r:embed="rId2"/>
          <a:stretch/>
        </p:blipFill>
        <p:spPr>
          <a:xfrm>
            <a:off x="903240" y="2575080"/>
            <a:ext cx="7591320" cy="3943080"/>
          </a:xfrm>
          <a:prstGeom prst="rect">
            <a:avLst/>
          </a:prstGeom>
          <a:ln w="0">
            <a:noFill/>
          </a:ln>
        </p:spPr>
      </p:pic>
      <p:sp>
        <p:nvSpPr>
          <p:cNvPr id="1363" name="矩形 137219"/>
          <p:cNvSpPr/>
          <p:nvPr/>
        </p:nvSpPr>
        <p:spPr>
          <a:xfrm>
            <a:off x="7765920" y="32576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4" name="图片 136193" descr=""/>
          <p:cNvPicPr/>
          <p:nvPr/>
        </p:nvPicPr>
        <p:blipFill>
          <a:blip r:embed="rId1"/>
          <a:stretch/>
        </p:blipFill>
        <p:spPr>
          <a:xfrm>
            <a:off x="363600" y="835200"/>
            <a:ext cx="8163000" cy="3485880"/>
          </a:xfrm>
          <a:prstGeom prst="rect">
            <a:avLst/>
          </a:prstGeom>
          <a:ln w="0">
            <a:noFill/>
          </a:ln>
        </p:spPr>
      </p:pic>
      <p:sp>
        <p:nvSpPr>
          <p:cNvPr id="1365" name="矩形 136194"/>
          <p:cNvSpPr/>
          <p:nvPr/>
        </p:nvSpPr>
        <p:spPr>
          <a:xfrm>
            <a:off x="7694640" y="14907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6" name="图片 135169" descr=""/>
          <p:cNvPicPr/>
          <p:nvPr/>
        </p:nvPicPr>
        <p:blipFill>
          <a:blip r:embed="rId1"/>
          <a:stretch/>
        </p:blipFill>
        <p:spPr>
          <a:xfrm>
            <a:off x="264960" y="793800"/>
            <a:ext cx="8182080" cy="4457520"/>
          </a:xfrm>
          <a:prstGeom prst="rect">
            <a:avLst/>
          </a:prstGeom>
          <a:ln w="0">
            <a:noFill/>
          </a:ln>
        </p:spPr>
      </p:pic>
      <p:sp>
        <p:nvSpPr>
          <p:cNvPr id="1367" name="矩形 135170"/>
          <p:cNvSpPr/>
          <p:nvPr/>
        </p:nvSpPr>
        <p:spPr>
          <a:xfrm>
            <a:off x="3513240" y="8445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矩形 135171"/>
          <p:cNvSpPr/>
          <p:nvPr/>
        </p:nvSpPr>
        <p:spPr>
          <a:xfrm>
            <a:off x="5197320" y="844560"/>
            <a:ext cx="4842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矩形 135172"/>
          <p:cNvSpPr/>
          <p:nvPr/>
        </p:nvSpPr>
        <p:spPr>
          <a:xfrm>
            <a:off x="7016760" y="8445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135173"/>
          <p:cNvSpPr/>
          <p:nvPr/>
        </p:nvSpPr>
        <p:spPr>
          <a:xfrm>
            <a:off x="2660760" y="1398600"/>
            <a:ext cx="10587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矩形 135174"/>
          <p:cNvSpPr/>
          <p:nvPr/>
        </p:nvSpPr>
        <p:spPr>
          <a:xfrm>
            <a:off x="4776840" y="1398600"/>
            <a:ext cx="10587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2" name="图片 134145" descr=""/>
          <p:cNvPicPr/>
          <p:nvPr/>
        </p:nvPicPr>
        <p:blipFill>
          <a:blip r:embed="rId1"/>
          <a:stretch/>
        </p:blipFill>
        <p:spPr>
          <a:xfrm>
            <a:off x="260280" y="890640"/>
            <a:ext cx="7962840" cy="1724040"/>
          </a:xfrm>
          <a:prstGeom prst="rect">
            <a:avLst/>
          </a:prstGeom>
          <a:ln w="0">
            <a:noFill/>
          </a:ln>
        </p:spPr>
      </p:pic>
      <p:sp>
        <p:nvSpPr>
          <p:cNvPr id="1373" name="矩形 134146"/>
          <p:cNvSpPr/>
          <p:nvPr/>
        </p:nvSpPr>
        <p:spPr>
          <a:xfrm>
            <a:off x="1089000" y="2136600"/>
            <a:ext cx="5349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4" name="图片 133121" descr=""/>
          <p:cNvPicPr/>
          <p:nvPr/>
        </p:nvPicPr>
        <p:blipFill>
          <a:blip r:embed="rId1"/>
          <a:stretch/>
        </p:blipFill>
        <p:spPr>
          <a:xfrm>
            <a:off x="214200" y="866880"/>
            <a:ext cx="8258400" cy="5810040"/>
          </a:xfrm>
          <a:prstGeom prst="rect">
            <a:avLst/>
          </a:prstGeom>
          <a:ln w="0">
            <a:noFill/>
          </a:ln>
        </p:spPr>
      </p:pic>
      <p:sp>
        <p:nvSpPr>
          <p:cNvPr id="1375" name="矩形 133122"/>
          <p:cNvSpPr/>
          <p:nvPr/>
        </p:nvSpPr>
        <p:spPr>
          <a:xfrm>
            <a:off x="841320" y="2660760"/>
            <a:ext cx="763452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矩形 133123"/>
          <p:cNvSpPr/>
          <p:nvPr/>
        </p:nvSpPr>
        <p:spPr>
          <a:xfrm>
            <a:off x="841320" y="3267000"/>
            <a:ext cx="763452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矩形 133124"/>
          <p:cNvSpPr/>
          <p:nvPr/>
        </p:nvSpPr>
        <p:spPr>
          <a:xfrm>
            <a:off x="841320" y="3830760"/>
            <a:ext cx="763452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矩形 133125"/>
          <p:cNvSpPr/>
          <p:nvPr/>
        </p:nvSpPr>
        <p:spPr>
          <a:xfrm>
            <a:off x="841320" y="4487760"/>
            <a:ext cx="763452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矩形 133126"/>
          <p:cNvSpPr/>
          <p:nvPr/>
        </p:nvSpPr>
        <p:spPr>
          <a:xfrm>
            <a:off x="841320" y="5062680"/>
            <a:ext cx="763452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矩形 133127"/>
          <p:cNvSpPr/>
          <p:nvPr/>
        </p:nvSpPr>
        <p:spPr>
          <a:xfrm>
            <a:off x="841320" y="5689440"/>
            <a:ext cx="7634520" cy="4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矩形 133128"/>
          <p:cNvSpPr/>
          <p:nvPr/>
        </p:nvSpPr>
        <p:spPr>
          <a:xfrm>
            <a:off x="841320" y="6284880"/>
            <a:ext cx="763452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1T00:36:21Z</dcterms:modified>
  <cp:revision>7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